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4EB-023C-4305-A3F5-79E71A31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73680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DB4-AA18-44C1-85C6-6BF69C03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291-DB86-44E3-A967-8D53BBAB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844-EC3B-4F5C-AEFB-11700E5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E30-E425-416A-AB7C-6261C2BF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995-3368-46A4-87DD-B0189F09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DA11-3467-4510-83E6-0316E7AE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8215-18D0-4E00-80B8-AF55A5FB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4F16-B3DC-422F-B8A9-9C221EEA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48B5-87C3-4975-A8E1-2EC6CAEA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391-F69A-4CD6-9EF8-BBB2ED8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B4E-A0BB-4BAA-AEA1-E359221C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01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D8A-0B19-4085-919E-80C98EC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189B-99E5-4848-B482-3134FFB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73680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7AA6-FCA1-4312-8CA8-1059CD1A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01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B958-96DC-4F89-A24E-A1001A2E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840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0480" y="990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840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0480" y="37368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62B1-7D2F-4E79-8CA3-5CAD75CA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46F-B315-4273-949F-E9E9451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1C4-8FDA-4646-BD78-DE57597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5F1-7A79-43B2-BCFB-744EA469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790-9A20-49B4-84C4-0267B26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ED3-269F-416E-8894-17353B9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7368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725-3E2E-432A-9AA5-377BE94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990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73680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902-6949-4B37-9448-3177A7A9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Second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Third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969696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Fourth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Fifth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969696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Sixth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969696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Seventh Outline Leve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054-B6DE-42ED-B898-D17B7AD47D7C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CB1-2D71-419A-82E4-F81AD3E656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lvl="1" marL="457200" algn="ctr">
              <a:spcBef>
                <a:spcPts val="601"/>
              </a:spcBef>
              <a:buClr>
                <a:srgbClr val="969696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969696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969696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굴림"/>
              </a:rPr>
              <a:t>Third Outline Level</a:t>
            </a:r>
            <a:endParaRPr b="1" lang="en-US" sz="2000" spc="-1" strike="noStrike">
              <a:solidFill>
                <a:srgbClr val="969696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969696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굴림"/>
              </a:rPr>
              <a:t>Fourth Outline Level</a:t>
            </a:r>
            <a:endParaRPr b="1" lang="en-US" sz="1800" spc="-1" strike="noStrike">
              <a:solidFill>
                <a:srgbClr val="969696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969696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굴림"/>
              </a:rPr>
              <a:t>Fifth Outline Level</a:t>
            </a:r>
            <a:endParaRPr b="1" lang="en-US" sz="1800" spc="-1" strike="noStrike">
              <a:solidFill>
                <a:srgbClr val="969696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969696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굴림"/>
              </a:rPr>
              <a:t>Sixth Outline Level</a:t>
            </a:r>
            <a:endParaRPr b="1" lang="en-US" sz="1800" spc="-1" strike="noStrike">
              <a:solidFill>
                <a:srgbClr val="969696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969696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굴림"/>
              </a:rPr>
              <a:t>Seventh Outline Level</a:t>
            </a:r>
            <a:endParaRPr b="1" lang="en-US" sz="1800" spc="-1" strike="noStrike">
              <a:solidFill>
                <a:srgbClr val="96969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guide.org/life/sleep_disorders.htm" TargetMode="External"/><Relationship Id="rId3" Type="http://schemas.openxmlformats.org/officeDocument/2006/relationships/hyperlink" Target="http://www.helpguide.org/life/sleep_disorders.htm" TargetMode="External"/><Relationship Id="rId4" Type="http://schemas.openxmlformats.org/officeDocument/2006/relationships/hyperlink" Target="http://www.neurologychannel.com/sleepdisorders/index.shtml" TargetMode="External"/><Relationship Id="rId5" Type="http://schemas.openxmlformats.org/officeDocument/2006/relationships/hyperlink" Target="http://sleepdisorders.about.com/" TargetMode="External"/><Relationship Id="rId6" Type="http://schemas.openxmlformats.org/officeDocument/2006/relationships/hyperlink" Target="http://www.nhlbi.nih.gov/about/ncsdr/index.htm" TargetMode="External"/><Relationship Id="rId7" Type="http://schemas.openxmlformats.org/officeDocument/2006/relationships/hyperlink" Target="http://www.fda.gov/WOMENS/getthefacts/sleep.html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orte"/>
                <a:ea typeface="휴먼편지체"/>
              </a:rPr>
              <a:t>Sleeping Disorders</a:t>
            </a:r>
            <a:endParaRPr b="0" lang="en-US" sz="40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By Jonathan Kim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705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Forte"/>
                <a:ea typeface="휴먼편지체"/>
              </a:rPr>
              <a:t>What is Sleeping Disorders?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Sleep disorder is a medical disorder of the sleep patterns of a person.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Sleep disorders can vary from just grinding your teeth to acting out violent dreams during REM.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Lack of sleep, disturbed sleep, and excessive sleep can cause Sleeping Disorders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191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rot="1398000">
            <a:off x="5525280" y="1041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 rot="20616600">
            <a:off x="3747240" y="10468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rot="534000">
            <a:off x="7143120" y="763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 rot="21008400">
            <a:off x="2292120" y="16977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rot="20616600">
            <a:off x="5618880" y="18388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771600">
            <a:off x="7349400" y="57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rot="15114000">
            <a:off x="454680" y="303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125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524720" y="184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589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2938800">
            <a:off x="2090880" y="5613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20140800">
            <a:off x="4484520" y="58647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휴먼편지체"/>
                <a:ea typeface="휴먼편지체"/>
              </a:rPr>
              <a:t>Sleepy~</a:t>
            </a:r>
            <a:endParaRPr b="0" lang="en-US" sz="1800" spc="-1" strike="noStrike">
              <a:solidFill>
                <a:srgbClr val="969696"/>
              </a:solidFill>
              <a:latin typeface="굴림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100"/>
                            </p:stCondLst>
                            <p:childTnLst>
                              <p:par>
                                <p:cTn id="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10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1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Forte"/>
                <a:ea typeface="휴먼편지체"/>
              </a:rPr>
              <a:t>Common Causes of Sleep Disorder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Anxiety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Back Pain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Chronic Pain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Sciatica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Neck Pain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Environmental Noise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Incontinence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Various Drugs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Endocrine Imbalance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Chronobiological Disorders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2486160" cy="3381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ambria"/>
                <a:ea typeface="휴먼편지체"/>
              </a:rPr>
              <a:t>Common Sleeping Disorders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Bruxism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grinding of the teeth while sleeping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Delayed Sleep Phase Syndrome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inability to awaken and fall asleep at regular times but no problem with sleep maintenance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Hypopnea Syndrome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Slow breathing rates during sleeping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Narcolepsy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The condition of falling asleep spontaneously and unwillingly at inappropriate times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Sleep Terror Disorder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abrupt awakening from sleep with behavior consistent with terror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Parasomnias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Include a variety of disruptive sleep-related events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Periodic Limb Movement Disorder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Sudden movements of arms and/or legs during sleep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Rapid Eye Movement Behavior Disorder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Acting out violent or dramatic dreams while in REM sleep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Restless Legs Syndrome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An irresistible urge to move legs.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Situational Circadian Rhythm Sleep Disorders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Shift work sleep disorder and jet lag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Obstructive Sleep Apnea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Obstruction of the airway during sleep, causing lack of sufficient deep sleep; often accompanied by snoring.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Sleep Paralysis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characterized by temporary paralysis of the body shortly before or after sleep.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66cc"/>
                </a:solidFill>
                <a:uFillTx/>
                <a:latin typeface="Cambria"/>
                <a:ea typeface="휴먼편지체"/>
              </a:rPr>
              <a:t>Sleepwalking</a:t>
            </a:r>
            <a:r>
              <a:rPr b="1" lang="ko-KR" sz="1600" spc="-1" strike="noStrike">
                <a:solidFill>
                  <a:srgbClr val="969696"/>
                </a:solidFill>
                <a:latin typeface="Cambria"/>
                <a:ea typeface="휴먼편지체"/>
              </a:rPr>
              <a:t>: Engaging in activities that are normally associated with wakefulness (such as eating or dressing), which may include walking, without the conscious knowledge of the subject </a:t>
            </a:r>
            <a:endParaRPr b="1" lang="en-US" sz="1600" spc="-1" strike="noStrike">
              <a:solidFill>
                <a:srgbClr val="969696"/>
              </a:solidFill>
              <a:latin typeface="굴림"/>
            </a:endParaRPr>
          </a:p>
        </p:txBody>
      </p:sp>
    </p:spTree>
  </p:cSld>
  <p:transition spd="med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9000"/>
                            </p:stCondLst>
                            <p:childTnLst>
                              <p:par>
                                <p:cTn id="4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2997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HY목각파임B"/>
                <a:ea typeface="HY목각파임B"/>
              </a:rPr>
              <a:t>Which Disorder Do You Think You Have?</a:t>
            </a:r>
            <a:endParaRPr b="0" lang="en-US" sz="2800" spc="-1" strike="noStrike">
              <a:solidFill>
                <a:srgbClr val="969696"/>
              </a:solidFill>
              <a:latin typeface="굴림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276228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Forte"/>
                <a:ea typeface="휴먼편지체"/>
              </a:rPr>
              <a:t>General Principles of Treatment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Behavioral/ psychotherapeutic treatments 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Rehabilitation/management 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Medications 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Other somatic treatments 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orte"/>
                <a:ea typeface="휴먼편지체"/>
              </a:rPr>
              <a:t>GET THE RIGHT AMOUNT OF SLEEP!!!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</p:spTree>
  </p:cSld>
  <p:transition spd="med">
    <p:fade thruBlk="true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350"/>
                            </p:stCondLst>
                            <p:childTnLst>
                              <p:par>
                                <p:cTn id="4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50"/>
                            </p:stCondLst>
                            <p:childTnLst>
                              <p:par>
                                <p:cTn id="4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50"/>
                            </p:stCondLst>
                            <p:childTnLst>
                              <p:par>
                                <p:cTn id="4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600"/>
                            </p:stCondLst>
                            <p:childTnLst>
                              <p:par>
                                <p:cTn id="5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휴먼편지체"/>
                <a:ea typeface="휴먼편지체"/>
              </a:rPr>
              <a:t>Bibliography</a:t>
            </a:r>
            <a:endParaRPr b="0" lang="en-US" sz="32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ea typeface="휴먼편지체"/>
                <a:hlinkClick r:id="rId2"/>
              </a:rPr>
              <a:t>http://</a:t>
            </a: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ea typeface="휴먼편지체"/>
                <a:hlinkClick r:id="rId3"/>
              </a:rPr>
              <a:t>www.helpguide.org/life/sleep_disorders.htm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ea typeface="휴먼편지체"/>
                <a:hlinkClick r:id="rId4"/>
              </a:rPr>
              <a:t>http://www.neurologychannel.com/sleepdisorders/index.shtm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ea typeface="휴먼편지체"/>
                <a:hlinkClick r:id="rId5"/>
              </a:rPr>
              <a:t>http://sleepdisorders.about.com/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ea typeface="휴먼편지체"/>
                <a:hlinkClick r:id="rId6"/>
              </a:rPr>
              <a:t>http://www.nhlbi.nih.gov/about/ncsdr/index.htm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Forte"/>
                <a:hlinkClick r:id="rId7"/>
              </a:rPr>
              <a:t>http://www.fda.gov/WOMENS/getthefacts/sleep.html</a:t>
            </a: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2:34:29Z</dcterms:created>
  <dc:creator>Jonathan Kim</dc:creator>
  <dc:description/>
  <cp:keywords/>
  <dc:language>en-US</dc:language>
  <cp:lastModifiedBy>Jonathan Kim</cp:lastModifiedBy>
  <dcterms:modified xsi:type="dcterms:W3CDTF">2008-10-10T05:19:36Z</dcterms:modified>
  <cp:revision>11</cp:revision>
  <dc:subject/>
  <dc:title>Sleeping Disord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91033</vt:lpwstr>
  </property>
</Properties>
</file>